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0BD-1EC9-4CCF-8205-9DCB8CD0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512-C569-4731-9BC9-33B21491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B24-E5A9-4A35-B1AE-D9F0D6C1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B54-5F5B-407F-8C69-060273AB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1787C-FE50-4734-AD49-E83C642D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CFF17-5ECC-437A-AD5A-564E9513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8C87A-03EB-4CD4-A829-8B93E0E6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20E59-0D6C-457A-A963-BC9205B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9665F-ADE2-487C-AA08-DE4E0899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836A8-2488-4063-A818-BD913D3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FB45A-AF59-4FB8-B130-BD0B9CD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50A-978C-48B2-86A6-B54384AE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D73AD-8A25-4814-B805-60E81F1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DFFBE-203A-44E8-AF3F-26E77B4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5B299-6A5B-496E-9397-560B9CB5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970A4-5F79-41DF-9DD2-5BFBCB3B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0AD20-1E0C-485A-B9F5-6787B6BB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FBE-6541-4A1D-97DC-1DCE38F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7C0-BFB4-4F31-99D8-185BC6EB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424-B91E-42C7-AD11-C13CB93A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273-B85D-4184-B011-DBBE6031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2FD-B314-4359-84CC-60F9FCD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F40-9243-4E72-8D9C-DF90448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960-D534-4E77-BBE7-DA145606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8A2A-06E7-42BA-89A5-3E0EB3D571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F11-AAAB-4E6E-A9F2-983C971E9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Kar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is Hallowe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ara had no idea when she woke up that morning everything in her life was about to change on October 30 Hallow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6717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she went downstairs to eat breakfast no one there she looked all over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kitchen, my mom’s bedroom, my sister’s bedroom  no one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looked outside no one there she looked for hours and hours no one there it was night thunder c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ara did not here any children going out trick or treating she felt scared the windows started to open by there self. A ghost touched here Kyara screa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560" y="3846600"/>
            <a:ext cx="455940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19238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ara went to bed scared but then she realized it was just a dream she went down stairs to hug everyone Kyara was so happy to see everyone. The End!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043080" cy="191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559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26Z</dcterms:created>
  <dc:creator>student</dc:creator>
  <dc:description/>
  <dc:language>en-US</dc:language>
  <cp:lastModifiedBy>student</cp:lastModifiedBy>
  <dcterms:modified xsi:type="dcterms:W3CDTF">2010-11-01T16:39:04Z</dcterms:modified>
  <cp:revision>7</cp:revision>
  <dc:subject/>
  <dc:title>Kyara</dc:title>
</cp:coreProperties>
</file>